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AC8E9-E59B-4704-873F-394AA1D65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616C4-7AE6-4E45-A072-DF6611D2C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C62C9-AE75-4C69-84A6-AC8A37D46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2F7E9-429C-478E-B4E8-83E4BD0F9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88251-162B-4025-97D2-218EEC390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FBEA0-F7DF-43EF-8F4C-06D52A681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56382-7DEB-4C7F-8FB8-8747FDA32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D553C-C25B-4ACD-B884-59D3C3C28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11177-D3BE-419A-887A-870B464D5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715E1-59B5-4DB5-8800-B5548E8A8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F6815-5BA7-48DA-94DF-19FD89B63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01CBD-4CE0-486C-8FA8-90F0ACFC4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AE258-BD50-4E28-91EC-D3E41EDD87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838080" y="87480"/>
            <a:ext cx="8077320" cy="6618240"/>
            <a:chOff x="838080" y="87480"/>
            <a:chExt cx="8077320" cy="6618240"/>
          </a:xfrm>
        </p:grpSpPr>
        <p:pic>
          <p:nvPicPr>
            <p:cNvPr id="42" name="Picture 2" descr="A picture containing text, electronics&#10;&#10;Description automatically generated"/>
            <p:cNvPicPr/>
            <p:nvPr/>
          </p:nvPicPr>
          <p:blipFill>
            <a:blip r:embed="rId1"/>
            <a:stretch/>
          </p:blipFill>
          <p:spPr>
            <a:xfrm>
              <a:off x="884160" y="2909880"/>
              <a:ext cx="3721320" cy="182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TextBox 8"/>
            <p:cNvSpPr/>
            <p:nvPr/>
          </p:nvSpPr>
          <p:spPr>
            <a:xfrm rot="16200000">
              <a:off x="1547280" y="2629440"/>
              <a:ext cx="496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EV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TextBox 9"/>
            <p:cNvSpPr/>
            <p:nvPr/>
          </p:nvSpPr>
          <p:spPr>
            <a:xfrm rot="16200000">
              <a:off x="1701720" y="2553480"/>
              <a:ext cx="647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gRNA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TextBox 10"/>
            <p:cNvSpPr/>
            <p:nvPr/>
          </p:nvSpPr>
          <p:spPr>
            <a:xfrm rot="16200000">
              <a:off x="1934640" y="2551680"/>
              <a:ext cx="652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gRNA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" name="Picture 11" descr="A picture containing text&#10;&#10;Description automatically generated"/>
            <p:cNvPicPr/>
            <p:nvPr/>
          </p:nvPicPr>
          <p:blipFill>
            <a:blip r:embed="rId2"/>
            <a:stretch/>
          </p:blipFill>
          <p:spPr>
            <a:xfrm>
              <a:off x="838080" y="4756320"/>
              <a:ext cx="3648240" cy="190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" name="Picture 2" descr="A picture containing text, whiteboard&#10;&#10;Description automatically generated"/>
            <p:cNvPicPr/>
            <p:nvPr/>
          </p:nvPicPr>
          <p:blipFill>
            <a:blip r:embed="rId3"/>
            <a:stretch/>
          </p:blipFill>
          <p:spPr>
            <a:xfrm>
              <a:off x="4637160" y="2752560"/>
              <a:ext cx="4278240" cy="204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" name="Picture 17" descr="A picture containing text, white&#10;&#10;Description automatically generated"/>
            <p:cNvPicPr/>
            <p:nvPr/>
          </p:nvPicPr>
          <p:blipFill>
            <a:blip r:embed="rId4"/>
            <a:stretch/>
          </p:blipFill>
          <p:spPr>
            <a:xfrm>
              <a:off x="4851360" y="4853160"/>
              <a:ext cx="3913200" cy="185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TextBox 9"/>
            <p:cNvSpPr/>
            <p:nvPr/>
          </p:nvSpPr>
          <p:spPr>
            <a:xfrm rot="16200000">
              <a:off x="6696360" y="2427120"/>
              <a:ext cx="488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EV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TextBox 10"/>
            <p:cNvSpPr/>
            <p:nvPr/>
          </p:nvSpPr>
          <p:spPr>
            <a:xfrm rot="16200000">
              <a:off x="6817320" y="2354400"/>
              <a:ext cx="63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gRNA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TextBox 11"/>
            <p:cNvSpPr/>
            <p:nvPr/>
          </p:nvSpPr>
          <p:spPr>
            <a:xfrm rot="16200000">
              <a:off x="7042320" y="2350440"/>
              <a:ext cx="64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gRNA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657440" y="3278160"/>
              <a:ext cx="685800" cy="3049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657440" y="6267600"/>
              <a:ext cx="685800" cy="30456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737400" y="3311640"/>
              <a:ext cx="685800" cy="30456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737400" y="6172200"/>
              <a:ext cx="685800" cy="3049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675800" y="2057400"/>
              <a:ext cx="75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HEK29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475320" y="1905120"/>
              <a:ext cx="1344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HEK293-51 CA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992880" y="3311640"/>
              <a:ext cx="476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HT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915120" y="6300720"/>
              <a:ext cx="520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t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183400" y="87480"/>
              <a:ext cx="4699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ull unedited gel of Figure 5E with labels (source data 2)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007600" y="3265560"/>
              <a:ext cx="476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HT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929840" y="6178680"/>
              <a:ext cx="520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t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3" name=""/>
            <p:cNvGrpSpPr/>
            <p:nvPr/>
          </p:nvGrpSpPr>
          <p:grpSpPr>
            <a:xfrm>
              <a:off x="3089160" y="430200"/>
              <a:ext cx="2963880" cy="1553400"/>
              <a:chOff x="3089160" y="430200"/>
              <a:chExt cx="2963880" cy="1553400"/>
            </a:xfrm>
          </p:grpSpPr>
          <p:pic>
            <p:nvPicPr>
              <p:cNvPr id="64" name="Picture 77" descr="A picture containing floor&#10;&#10;Description automatically generated"/>
              <p:cNvPicPr/>
              <p:nvPr/>
            </p:nvPicPr>
            <p:blipFill>
              <a:blip r:embed="rId5"/>
              <a:srcRect l="10018" t="17415" r="10548" b="19692"/>
              <a:stretch/>
            </p:blipFill>
            <p:spPr>
              <a:xfrm>
                <a:off x="3549600" y="1362240"/>
                <a:ext cx="900000" cy="28404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pic>
            <p:nvPicPr>
              <p:cNvPr id="65" name="Picture 79" descr="A picture containing floor&#10;&#10;Description automatically generated"/>
              <p:cNvPicPr/>
              <p:nvPr/>
            </p:nvPicPr>
            <p:blipFill>
              <a:blip r:embed="rId6"/>
              <a:srcRect l="0" t="29185" r="17407" b="24157"/>
              <a:stretch/>
            </p:blipFill>
            <p:spPr>
              <a:xfrm>
                <a:off x="4495680" y="1360440"/>
                <a:ext cx="898560" cy="28584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sp>
            <p:nvSpPr>
              <p:cNvPr id="66" name="TextBox 80"/>
              <p:cNvSpPr/>
              <p:nvPr/>
            </p:nvSpPr>
            <p:spPr>
              <a:xfrm>
                <a:off x="3676680" y="1752480"/>
                <a:ext cx="67932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  <a:ea typeface="맑은 고딕"/>
                  </a:rPr>
                  <a:t>HEK293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TextBox 81"/>
              <p:cNvSpPr/>
              <p:nvPr/>
            </p:nvSpPr>
            <p:spPr>
              <a:xfrm>
                <a:off x="4381560" y="1751040"/>
                <a:ext cx="112536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  <a:ea typeface="맑은 고딕"/>
                  </a:rPr>
                  <a:t>HEK293-51 CAG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TextBox 82"/>
              <p:cNvSpPr/>
              <p:nvPr/>
            </p:nvSpPr>
            <p:spPr>
              <a:xfrm>
                <a:off x="5489640" y="1405080"/>
                <a:ext cx="41112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  <a:ea typeface="맑은 고딕"/>
                  </a:rPr>
                  <a:t>45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TextBox 83"/>
              <p:cNvSpPr/>
              <p:nvPr/>
            </p:nvSpPr>
            <p:spPr>
              <a:xfrm>
                <a:off x="5489640" y="1192320"/>
                <a:ext cx="41112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  <a:ea typeface="맑은 고딕"/>
                  </a:rPr>
                  <a:t>300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Straight Connector 84"/>
              <p:cNvSpPr/>
              <p:nvPr/>
            </p:nvSpPr>
            <p:spPr>
              <a:xfrm>
                <a:off x="5479920" y="1501920"/>
                <a:ext cx="81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TextBox 94"/>
              <p:cNvSpPr/>
              <p:nvPr/>
            </p:nvSpPr>
            <p:spPr>
              <a:xfrm>
                <a:off x="3109680" y="1398600"/>
                <a:ext cx="4590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  <a:ea typeface="맑은 고딕"/>
                  </a:rPr>
                  <a:t>Actin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72" name="Picture 76" descr="A close up of a person's eyes&#10;&#10;Description automatically generated with medium confidence"/>
              <p:cNvPicPr/>
              <p:nvPr/>
            </p:nvPicPr>
            <p:blipFill>
              <a:blip r:embed="rId7"/>
              <a:srcRect l="2869" t="18161" r="2194" b="23784"/>
              <a:stretch/>
            </p:blipFill>
            <p:spPr>
              <a:xfrm>
                <a:off x="3549600" y="1066680"/>
                <a:ext cx="900000" cy="25740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pic>
            <p:nvPicPr>
              <p:cNvPr id="73" name="Picture 78" descr="A close up of a person's eyes&#10;&#10;Description automatically generated with medium confidence"/>
              <p:cNvPicPr/>
              <p:nvPr/>
            </p:nvPicPr>
            <p:blipFill>
              <a:blip r:embed="rId8"/>
              <a:srcRect l="11434" t="19195" r="10559" b="13831"/>
              <a:stretch/>
            </p:blipFill>
            <p:spPr>
              <a:xfrm>
                <a:off x="4495680" y="1066680"/>
                <a:ext cx="898560" cy="26064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sp>
            <p:nvSpPr>
              <p:cNvPr id="74" name="Straight Connector 85"/>
              <p:cNvSpPr/>
              <p:nvPr/>
            </p:nvSpPr>
            <p:spPr>
              <a:xfrm>
                <a:off x="5479920" y="1306440"/>
                <a:ext cx="81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TextBox 86"/>
              <p:cNvSpPr/>
              <p:nvPr/>
            </p:nvSpPr>
            <p:spPr>
              <a:xfrm>
                <a:off x="5298840" y="836640"/>
                <a:ext cx="754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  <a:ea typeface="맑은 고딕"/>
                  </a:rPr>
                  <a:t>Size (kDa)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TextBox 87"/>
              <p:cNvSpPr/>
              <p:nvPr/>
            </p:nvSpPr>
            <p:spPr>
              <a:xfrm rot="16200000">
                <a:off x="3486240" y="692640"/>
                <a:ext cx="52236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  <a:ea typeface="맑은 고딕"/>
                  </a:rPr>
                  <a:t>EV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TextBox 88"/>
              <p:cNvSpPr/>
              <p:nvPr/>
            </p:nvSpPr>
            <p:spPr>
              <a:xfrm rot="16200000">
                <a:off x="3708000" y="652680"/>
                <a:ext cx="5968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  <a:ea typeface="맑은 고딕"/>
                  </a:rPr>
                  <a:t>gRNA 1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TextBox 89"/>
              <p:cNvSpPr/>
              <p:nvPr/>
            </p:nvSpPr>
            <p:spPr>
              <a:xfrm rot="16200000">
                <a:off x="3952440" y="633600"/>
                <a:ext cx="6350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  <a:ea typeface="맑은 고딕"/>
                  </a:rPr>
                  <a:t>gRNA 2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TextBox 90"/>
              <p:cNvSpPr/>
              <p:nvPr/>
            </p:nvSpPr>
            <p:spPr>
              <a:xfrm rot="16200000">
                <a:off x="4427640" y="691200"/>
                <a:ext cx="52236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  <a:ea typeface="맑은 고딕"/>
                  </a:rPr>
                  <a:t>EV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TextBox 91"/>
              <p:cNvSpPr/>
              <p:nvPr/>
            </p:nvSpPr>
            <p:spPr>
              <a:xfrm rot="16200000">
                <a:off x="4630320" y="632160"/>
                <a:ext cx="6350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  <a:ea typeface="맑은 고딕"/>
                  </a:rPr>
                  <a:t>gRNA 1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TextBox 92"/>
              <p:cNvSpPr/>
              <p:nvPr/>
            </p:nvSpPr>
            <p:spPr>
              <a:xfrm rot="16200000">
                <a:off x="4881240" y="632160"/>
                <a:ext cx="6350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  <a:ea typeface="맑은 고딕"/>
                  </a:rPr>
                  <a:t>gRNA 2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TextBox 93"/>
              <p:cNvSpPr/>
              <p:nvPr/>
            </p:nvSpPr>
            <p:spPr>
              <a:xfrm>
                <a:off x="3089160" y="1096920"/>
                <a:ext cx="47952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  <a:ea typeface="맑은 고딕"/>
                  </a:rPr>
                  <a:t>HTT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2134800" y="1146240"/>
              <a:ext cx="877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igure 5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4-05-14T16:33:43Z</dcterms:created>
  <dc:creator>User</dc:creator>
  <dc:description/>
  <dc:language>en-US</dc:language>
  <cp:lastModifiedBy>User</cp:lastModifiedBy>
  <dcterms:modified xsi:type="dcterms:W3CDTF">2024-05-20T18:53:48Z</dcterms:modified>
  <cp:revision>7</cp:revision>
  <dc:subject/>
  <dc:title>Slide 1</dc:title>
</cp:coreProperties>
</file>